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C10A-31A8-4B0D-B4C8-D8C667C5E4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4f72"/>
                </a:solidFill>
                <a:latin typeface="Times New Roman"/>
              </a:rPr>
              <a:t>Страх, злоба, обида, ненависть — главные чувства конфликтов. Конфликты в жизни неизбежны, если люди имеют свою собственную позицию, не являются бездумными исполнителями. Конфликтов нет только тогда, когда все люди одинаково думают, одинаково чувствуют, живут без сс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4f72"/>
                </a:solidFill>
                <a:latin typeface="Times New Roman"/>
              </a:rPr>
              <a:t>Нужно помнить, что практически по любому вопросу у разных людей взгляды отличаются. Ведь 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2124-9668-4917-B4E7-572A969DD5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A12A-F3DC-4C14-B4D1-5F6FA645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498-9FA6-4CF6-B968-A817CB33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3E3-63B5-44B2-B6AF-23DA1D18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122-BF02-4DDD-88BD-4A4E46D4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7DB-394E-45AD-8C83-A75E6A15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92F-8849-4C0E-AF47-27E70690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B57-89BB-4BA0-98F9-92940037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AEA-A85D-485D-8F2E-C3A47555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4475-BCA7-4D39-BA50-D311BC45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756-1B91-4BC8-AEAD-D535A4B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8A9-C6D2-4825-BC1A-FD4FC06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652-B183-4632-A743-D5D29EFB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F15C-45B4-4B62-B275-49EF3080045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2466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792180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954f72"/>
                </a:solidFill>
                <a:latin typeface="comic"/>
              </a:rPr>
              <a:t>Классный ча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1" i="1" lang="ru-RU" sz="5400" spc="-1" strike="noStrike">
                <a:solidFill>
                  <a:srgbClr val="0563c1"/>
                </a:solidFill>
                <a:latin typeface="Calibri"/>
              </a:rPr>
              <a:t>«Конфликт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5400" spc="-1" strike="noStrike">
                <a:solidFill>
                  <a:srgbClr val="0563c1"/>
                </a:solidFill>
                <a:latin typeface="Calibri"/>
              </a:rPr>
              <a:t>и пути его реш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-114912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23960" y="119664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. узнать значение слова «конфликт»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 познакомиться с причинами возникновения конфликт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3. учиться искать выход из конфликт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826920" y="1619280"/>
            <a:ext cx="6989760" cy="4824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8790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б конфликта избежат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ужно всем добра желать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114912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23960" y="1196640"/>
            <a:ext cx="7696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Цел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1. узнать значение слова «конфликт»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2. познакомиться с причинами возникновения конфликт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3. учиться искать выход из конфликт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71640" y="1052280"/>
            <a:ext cx="720072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НФЛИКТ -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олкновен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нений, сил, стор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1330200" y="2313000"/>
            <a:ext cx="64836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оловоломка мультик - Создать мем - Meme-arsenal.com"/>
          <p:cNvPicPr/>
          <p:nvPr/>
        </p:nvPicPr>
        <p:blipFill>
          <a:blip r:embed="rId1"/>
          <a:stretch/>
        </p:blipFill>
        <p:spPr>
          <a:xfrm>
            <a:off x="6156360" y="312840"/>
            <a:ext cx="2543040" cy="23652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"/>
          <p:cNvPicPr/>
          <p:nvPr/>
        </p:nvPicPr>
        <p:blipFill>
          <a:blip r:embed="rId2"/>
          <a:stretch/>
        </p:blipFill>
        <p:spPr>
          <a:xfrm>
            <a:off x="6012000" y="3429000"/>
            <a:ext cx="2184120" cy="2970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"/>
          <p:cNvPicPr/>
          <p:nvPr/>
        </p:nvPicPr>
        <p:blipFill>
          <a:blip r:embed="rId3"/>
          <a:stretch/>
        </p:blipFill>
        <p:spPr>
          <a:xfrm>
            <a:off x="-271440" y="369720"/>
            <a:ext cx="404820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"/>
          <p:cNvPicPr/>
          <p:nvPr/>
        </p:nvPicPr>
        <p:blipFill>
          <a:blip r:embed="rId4"/>
          <a:stretch/>
        </p:blipFill>
        <p:spPr>
          <a:xfrm>
            <a:off x="611280" y="3530520"/>
            <a:ext cx="1850760" cy="2957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3024360" y="1168560"/>
            <a:ext cx="2769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трах злоба, гнев ненависть обида - главные чувства конфли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6205320" cy="390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8920" y="4075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ужно помнить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практически по любому вопрос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 разных людей взгляды отличаютс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ЕДЬ ЛЮДИ ВСЕ РАЗНЫ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681120"/>
            <a:ext cx="78868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ичины конфликт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елание понять  друг 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оговорить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мение слуша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держанност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Мокрая туча ~ Поэзия (Стихи для детей)"/>
          <p:cNvPicPr/>
          <p:nvPr/>
        </p:nvPicPr>
        <p:blipFill>
          <a:blip r:embed="rId1"/>
          <a:stretch/>
        </p:blipFill>
        <p:spPr>
          <a:xfrm>
            <a:off x="2165400" y="998640"/>
            <a:ext cx="4681440" cy="32655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2"/>
          <a:stretch/>
        </p:blipFill>
        <p:spPr>
          <a:xfrm>
            <a:off x="299880" y="149400"/>
            <a:ext cx="5208840" cy="4574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>
            <a:off x="3367080" y="2935440"/>
            <a:ext cx="55119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81120"/>
            <a:ext cx="78868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Способы выхода из конфликтной ситуаци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53760" y="20602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юмо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од от конфликтных ситуаци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енность и готовность пойти навстреч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681120"/>
            <a:ext cx="78868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авила бесконфликтного повед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7280" y="177336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споре будь сдержан и тактич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Старайся жить так, чтобы людям рядом с тобой было хорош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учись сотрудничать, уступать, договариваться, находить компромис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Избегай конфликтов, ссор, не совершай необдуманных поступ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Главное - относись к людям так, как ты хочешь, чтобы относились к теб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2T17:27:01Z</dcterms:created>
  <dc:creator>User</dc:creator>
  <dc:description/>
  <dc:language>en-US</dc:language>
  <cp:lastModifiedBy>Ирина Жукова</cp:lastModifiedBy>
  <dcterms:modified xsi:type="dcterms:W3CDTF">2022-02-04T17:46:15Z</dcterms:modified>
  <cp:revision>22</cp:revision>
  <dc:subject/>
  <dc:title>Слайд 1</dc:title>
</cp:coreProperties>
</file>